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06F-C005-4FFD-82E2-E8630EF1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EC6-5C03-4767-B31E-708298E3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7DD-FCDE-488B-8443-B390D98A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655-1EC0-4A91-B886-02DA5CC7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0F6C-12E2-46C7-B018-90D24E6A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DF79-EE5F-4F40-B22F-42752AAC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8C8B-0B42-47FC-A510-740F86CE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338A-73BA-4247-B326-FBF6EB7B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7A4C-A1A5-4AB2-A327-1FAF0643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7460-9249-45C0-A59B-A3E631AF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BF22-16C4-420F-B7FA-2E5E0CC1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363-7203-4053-AD5D-6FCA83D7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1C17-2EFF-45CF-8F20-36530BC4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B9EB-D999-461B-9E42-847A72CE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6445-1171-44EA-885B-D3AD5FD5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4F1D-BA3D-4D8D-AE24-09AEF375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9F1B-D5E2-487F-AD0F-9F3C5707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22E05-7260-4CCB-89C4-8D51F1A1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20B1-CF76-42BF-A9D1-785AC552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D5DF-CB0D-41FD-BEF4-0D65AF02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E4441-4496-43AF-88CF-F6570B1D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663A-BF61-4DC8-9F36-29967735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275-9A7E-493D-85BB-D2084E90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FFF2-5F9F-437D-BC16-A677A6C3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6B446-02B7-4054-A763-27268BAF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A984-213E-4F68-BDA0-4C18E1DB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0C16D-006A-48BD-8263-D402E7B9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7DEA-4C50-44F5-8778-64E896B3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4414-6F04-4C7D-B251-1575F986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E2054-97C6-44F4-B404-D30E7D32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8F34-6709-491B-BB3A-A909C137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6548D-2A9E-44D8-8DD2-18D6C32A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CDD8A-AEFD-4C3D-B04F-874B541F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EAC-AA30-44E7-90CB-F9D73CEA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BDD93-5439-452C-AA87-58EA8301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21AC7-B985-4247-9470-72B09024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A9FC5-B047-49FB-B82D-B519B56C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F7E11-228B-450B-BE15-13FA413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0B0E-37F5-4B5B-B0A4-1D50D55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B3808-CA7F-4EC0-94C4-490FF2EC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86C3-3F5B-4DE8-96B5-BE56DD52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B3D30-C9DC-40DA-A591-62745BAB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5F8A8-05B2-4556-BBC6-75D26962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960-EC41-4CE6-9CE4-B500D9CE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1E8-13C9-403C-B722-1215EBD1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11A-DEFB-40B1-880E-7B9B5AA4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65B-B46A-48A2-9D58-8BED75AC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281-A0EB-4E1D-AE1A-05EA592A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916C-DA6A-4024-B867-674FD68948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5569-EF22-4CA5-A3B0-BE0C17AA688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297B-A886-4A7A-B8F3-2E928628637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9491-FA6F-4782-8A99-6281B0B5EAD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ER Diagram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tity-Relations (ER) Diagr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es the interrelationships between entities in a datab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C2CF-49A3-4FA6-96A5-FCBD7BC540D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925200" y="3048120"/>
            <a:ext cx="17150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5802840" y="2819520"/>
            <a:ext cx="17640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3363840" y="4267080"/>
            <a:ext cx="17654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pmen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p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1"/>
          <p:cNvSpPr/>
          <p:nvPr/>
        </p:nvSpPr>
        <p:spPr>
          <a:xfrm flipV="1">
            <a:off x="5104800" y="3557520"/>
            <a:ext cx="685800" cy="1471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3"/>
          <p:cNvSpPr/>
          <p:nvPr/>
        </p:nvSpPr>
        <p:spPr>
          <a:xfrm flipH="1" flipV="1">
            <a:off x="2438280" y="4266720"/>
            <a:ext cx="914400" cy="762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Example: DVD rental Store System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458D-8093-40BC-9C6E-0B42CC20F8C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http://wiki.ucalgary.ca/images/0/0a/ERDiagram.jpg"/>
          <p:cNvPicPr/>
          <p:nvPr/>
        </p:nvPicPr>
        <p:blipFill>
          <a:blip r:embed="rId1"/>
          <a:stretch/>
        </p:blipFill>
        <p:spPr>
          <a:xfrm>
            <a:off x="1447920" y="1631880"/>
            <a:ext cx="57909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se Stud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n appointment system in a clinic, where a patient can request to make an appointment to see a certain doctor at a specific time. Additionally, a doctor can use that system to record the timings where he would be available to see his patient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reserving an appointment, the receptionist has to make sure that the doctor speaks a language that the patient know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atient requests a specific device to be in the clinic, the receptionist should make sure that this device is available in the clinic to be reserv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, the receptionist should print  information  of the reserved appointment including the date, time, and clinic loc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0EA1-8622-4620-B7B9-27C5CE51E7F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3582-B106-4F84-9AB0-41AFC174E86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3972960" y="4191120"/>
            <a:ext cx="1561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3972960" y="914400"/>
            <a:ext cx="15613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639840" y="3505320"/>
            <a:ext cx="156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1375920" y="762120"/>
            <a:ext cx="1907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4"/>
          <p:cNvSpPr/>
          <p:nvPr/>
        </p:nvSpPr>
        <p:spPr>
          <a:xfrm>
            <a:off x="1304640" y="2362320"/>
            <a:ext cx="171828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oin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d/Not 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6"/>
          <p:cNvSpPr/>
          <p:nvPr/>
        </p:nvSpPr>
        <p:spPr>
          <a:xfrm>
            <a:off x="163800" y="5181480"/>
            <a:ext cx="2054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8"/>
          <p:cNvSpPr/>
          <p:nvPr/>
        </p:nvSpPr>
        <p:spPr>
          <a:xfrm flipH="1" flipV="1">
            <a:off x="3276360" y="1371600"/>
            <a:ext cx="6858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0"/>
          <p:cNvSpPr/>
          <p:nvPr/>
        </p:nvSpPr>
        <p:spPr>
          <a:xfrm flipV="1">
            <a:off x="3048120" y="2484000"/>
            <a:ext cx="914400" cy="639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2"/>
          <p:cNvSpPr/>
          <p:nvPr/>
        </p:nvSpPr>
        <p:spPr>
          <a:xfrm>
            <a:off x="3032280" y="3654360"/>
            <a:ext cx="930240" cy="917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4"/>
          <p:cNvSpPr/>
          <p:nvPr/>
        </p:nvSpPr>
        <p:spPr>
          <a:xfrm flipH="1">
            <a:off x="685440" y="4114800"/>
            <a:ext cx="609480" cy="1066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6"/>
          <p:cNvSpPr/>
          <p:nvPr/>
        </p:nvSpPr>
        <p:spPr>
          <a:xfrm>
            <a:off x="5562720" y="2819520"/>
            <a:ext cx="1066680" cy="990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 flipV="1">
            <a:off x="5562000" y="4105440"/>
            <a:ext cx="1066680" cy="1380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09C5-8112-425E-957A-DBAB75D5CD2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2678400" y="990720"/>
            <a:ext cx="2054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own Arrow 9"/>
          <p:cNvSpPr/>
          <p:nvPr/>
        </p:nvSpPr>
        <p:spPr>
          <a:xfrm>
            <a:off x="3505320" y="2362320"/>
            <a:ext cx="68580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0"/>
          <p:cNvSpPr/>
          <p:nvPr/>
        </p:nvSpPr>
        <p:spPr>
          <a:xfrm>
            <a:off x="846000" y="3352680"/>
            <a:ext cx="11178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1"/>
          <p:cNvSpPr/>
          <p:nvPr/>
        </p:nvSpPr>
        <p:spPr>
          <a:xfrm>
            <a:off x="4734720" y="3276720"/>
            <a:ext cx="16254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3"/>
          <p:cNvSpPr/>
          <p:nvPr/>
        </p:nvSpPr>
        <p:spPr>
          <a:xfrm flipH="1" flipV="1">
            <a:off x="1971720" y="3814560"/>
            <a:ext cx="2752560" cy="199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647640" y="5105520"/>
            <a:ext cx="66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ecause every device exists in only one clinic but clin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multip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What if the doctor speaks more than one language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2493-E3C0-4060-B5E8-30F1F0AFA42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3972960" y="914400"/>
            <a:ext cx="156132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6639840" y="3505320"/>
            <a:ext cx="156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9"/>
          <p:cNvSpPr/>
          <p:nvPr/>
        </p:nvSpPr>
        <p:spPr>
          <a:xfrm>
            <a:off x="5545080" y="2484360"/>
            <a:ext cx="1084320" cy="1621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17B6-6A46-4FFF-8C76-94CB749AD5F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465840" y="914400"/>
            <a:ext cx="1398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6411240" y="2438280"/>
            <a:ext cx="156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3211200" y="1523880"/>
            <a:ext cx="20736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tor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octo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anguag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0"/>
          <p:cNvSpPr/>
          <p:nvPr/>
        </p:nvSpPr>
        <p:spPr>
          <a:xfrm flipV="1">
            <a:off x="1873080" y="2057040"/>
            <a:ext cx="1327320" cy="2890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1853640" y="5105520"/>
            <a:ext cx="41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lled many to many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7"/>
          <p:cNvSpPr/>
          <p:nvPr/>
        </p:nvSpPr>
        <p:spPr>
          <a:xfrm>
            <a:off x="5295960" y="2262240"/>
            <a:ext cx="1104840" cy="776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n ER Diagram for an online travel agency system. A new user is required to create a new profile with a username and password. After logging in the system, the user inquires about different flights. The user can perform booking, changing, and canceling flight reserva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 three main tables; users, flights, and booked-fl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what information should be included in each table and what the relationships among them should b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your ER diagram to contain information about planes, airlines, and preferred me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4/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esignSkills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B1EE-7EBA-4901-8E74-4D354A94D8E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4-08T17:26:00Z</dcterms:modified>
  <cp:revision>231</cp:revision>
  <dc:subject/>
  <dc:title>CPSC 203</dc:title>
</cp:coreProperties>
</file>